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EFFB-03F7-4D83-BFD6-D54016C6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05FE-A7FA-4E9C-B06C-80536D4F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0918A-7CAC-48B4-8A0C-3FBD0670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15A63-E06B-48D7-8724-27DC2995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34F61-F6BB-4E3D-B406-B2498C74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5E549-49D8-47B1-BE02-78D1E6E9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D1289-393D-445B-8C85-0849B810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281D6-A441-402D-BC8B-EEFF22C5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5EDB5-5C83-4EB3-99CF-9CABFBEA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F571C-B779-4165-9ABF-38ABE5CD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4E51D-1B5F-44CD-BFAC-80EAA267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EF44E-30C5-4BF6-B74A-84678F67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B388-917D-43E5-AAFB-FED97109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DA2A9-6EBB-46B6-97BD-B90B0BE6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7CEA6-7959-4014-9FEE-D914C4EE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57F30-2283-4A03-A819-2BF2C5C2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D7B71-3D1E-41A5-9ABC-F23A53DB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77152-74FC-4F47-93AC-C2359ADA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7086C-4078-4142-889F-B1261B20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9CEA6-70B2-4444-B8AD-C8896136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CA9C2-02F1-4AD5-B041-9942F883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41812-716C-4305-B01A-EC0F68B0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28E28-11AA-42E5-8EEB-99426D0C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1F0C-828D-441A-A7A8-91702C3C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550D9-DD0D-4254-A1DF-A9415356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B7601-56B7-4AD6-82FD-5E6DF1C1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8365A-3C33-4131-96D9-AB1A45B3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EDA3D-5073-4389-8881-16AB4EF6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1B2E9-84F1-4EDD-85BA-AED3BA44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4C657-FD80-454C-A537-F14E4C84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A5FE0-D60A-4A5E-B9C4-D2B7E5CA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2959A-30BB-44ED-94C6-1A35EB37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F670F-3546-4DF6-BB3B-B05076C9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3D0D2-2FB0-4CBA-8F50-85855BF3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CB59-3110-4EED-A46B-8DCC74629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99188-F210-4DC9-92BE-6884706A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A1A1C-4513-43CA-A2D8-F49E94A6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68FFF-F52B-416B-8108-0508568F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BE9A7-E165-458B-975A-2EA9A25C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0BA1A-7FD5-4E73-8D90-F096083F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0C108-1C1B-4EE8-8494-15D6ACB6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701FF-047B-4124-9A58-E3AC9F24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71911-24B3-4BFB-AA55-8F9BC774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F3075-D19E-4737-A053-AE8C9263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D5E3E-9E76-448C-8569-0B5F3598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0F0F-96FC-435B-B4E2-7F8960E6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D998C-7C2E-4A36-B6A1-49957521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B8D90-A17E-4625-835F-595A7FD5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D8CA7-A372-4B10-B4E6-A03DB27E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9984B-85A4-4316-8F66-D7D29568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662D2-8DAB-4DC4-879A-B74036BB4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512764-5CA8-4A0B-B220-F77AB0D8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A6E472-FCF1-4EB1-84AB-2EABBD95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7BF2D8-C7B0-443F-A9A9-BB22E8B3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B2C989-D348-4CA6-93BB-29E47CD0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D622C5-F890-453A-8BDD-59BC2DEA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5477-1D1A-4A85-9196-D1F54B00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FB9E77-D9C1-4ED2-A554-54E3F2B3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62141C-35E4-4CF6-B8B0-E8EE2AC0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4028A4-8384-467E-84E5-9047EFD7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BCBEEC-3F1F-4220-B55C-1EEFDA64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D94BDB-A52F-4FCA-A032-C7DEBE9E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738DD7-A684-4D47-B9A5-8F9047AC9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57DD58-AD71-46EB-BDC9-9B143BBF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643F8E-CCE9-4536-BB50-273CAA5A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C0AF1A-880E-46FE-893A-423E941C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8DE585-FC01-459D-924B-4275CFD3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1E25-349C-45AA-B02E-2B902CF5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5BFBFB-97A9-482E-8C84-FF38E382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C6BBEC-B8D8-401E-AFD4-72931FD1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EDEC5C-B925-426E-8900-27303918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509688-AC3E-4557-A447-8A879D70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B16BE8-8383-416F-A32C-AF071962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DCC3F6-9929-48BE-A765-EBDD1542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51EBFE-6A07-440E-BF97-EA1BE3D0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E1960B-A44A-420B-A845-5081F644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0019E2-5C8B-42D2-AC9A-EEE7C6B6A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833BCD-E020-48F3-85CF-8315B88A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7957-2F26-4224-9741-1F1F0EB8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B124F6-3BE8-4375-9C90-45285D5E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762213-CFAF-4C53-A4A7-3CADAF57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E5C670-79DD-466A-8A09-98A27CA5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C3377E-2600-4856-B92D-F26B13E0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F70ED1-7B3A-47AB-BD4B-81038FCD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C1FEEE-FFF1-4938-A179-4BAB161D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2C190E-D235-4B35-A8CA-B21A46EE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0EF66B-8595-499F-BE3C-5B3FCC54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0EA9E2-D335-4D93-8BA4-3869FE60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20C903-63E7-4F22-8BC2-6B63ECBA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6E44-8211-4C14-AC26-B07D65AC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C459A4-0FD7-47F2-9CE4-E066A52D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F411BE-5C44-4784-A90C-9CD19ED4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A6CAB7-59E3-4FD7-85C9-C2978FF3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62BAC8-F635-4E59-8D09-E54FA551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16903C-DB61-40A7-B26B-06183506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0C0AE9-881B-46B6-964A-EA7B49C9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116194-9C56-4C4B-84FD-F5ECF135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D97F82-5BBC-4635-B900-923B9D9E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7AD215-1AA0-47C0-A3AD-F5DD06C5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EAAC90-6B4C-471A-8664-0CED6C3B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BCFE-20FE-4723-BB72-B3EFEF2F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CA798B-E5ED-43EF-94F6-DE4B7393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9FB3EA-9164-4178-8CC8-9AC7A087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482FDF-17F9-4969-9E44-72897CB4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A8F092-7253-4C7A-8112-602FD048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505D3F-6F95-4D83-B115-4665AEE6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E7BBAA-6B1A-4E72-8C88-82A43C7E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956380-ECCE-4144-86A2-A706E8C8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3AAF39-BED6-46F0-B415-6662F19D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B5F0CB-C330-4529-BD00-FC033088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871E14-8BD7-4E8C-A502-1FE44146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9513-A161-4FC6-8042-AD278F34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5D1F-A5A0-443A-8D88-9295B096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AD67EB-D318-441D-ABCE-9EDC9C42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6D6108-3E87-42B4-AA0F-734E047A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199C21-DAE9-4D93-8857-D696C96D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D1E401-1D1F-4A28-B9A5-95B2621E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6D0C5D-1FB7-46A5-B9C2-65FAD9B0C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2F8698-2159-4E34-8A75-55C84B2C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F19898-250D-4996-AF39-3B10BA6A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1582CE-C1AB-4B41-8FAF-0E51E454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9657C9-25A2-4299-9EB0-3F4B93F3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0846A1-017C-4F3A-9D37-FFBD1567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047A-CBA4-4F0A-9151-5800BC0B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FBC3AD-B0ED-4D8D-95B2-C6C9096F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81D7D0-5E1D-4430-81F0-5164E9BF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6097DE-3431-4C6B-A6D8-BDD72BBD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736215-FF41-4A2D-9165-90A9151E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2841B3-18C0-43C0-96C4-22357F20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E027A2-95BA-4A5C-8E9B-670FBFF2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A10EF4-7F73-48C1-A17A-7B9DC7A5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9F12-9916-47DA-A294-4EF6E01F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5833-EA5F-4E65-8FA9-D97E3284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3587-96E4-41FB-A8F4-CABB781A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4346D-AB25-4DA5-B215-1267783C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BA6B0-EB95-41BF-8418-63E796FF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69C76-D92D-46C6-902E-81345AA9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F1B0D-DF33-4246-A892-D62423F3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35C04-D8B5-4911-8883-D1F03AE1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BC35-4F74-499E-A242-B50516AD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92962-CACE-4910-973F-218AFC3B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E954E-14B0-44E9-A513-BC37C290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DE349-01FB-4EBD-8FA1-E2643CDF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5DEF3-EDCE-4A87-8508-2AD864E8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5F84D-B63C-41A6-A18E-AE3BB50D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072FC-6710-4724-AB82-A9A43683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D3F86-684B-4306-86BE-F25B8CA0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F1D02-425C-4018-B788-5C34556F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593BF-12F0-419A-A2FD-324AB960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B8B23-6F7B-437D-92A8-FC028DEF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6E86-70FF-494A-B6FE-AC3FAF74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FADC1-F1FD-4D24-8041-16E5CADE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FF80D-100B-4C6F-8983-52203FE3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0BA2A-9015-4B26-A9B1-E08B3DF1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20B8E-574E-49E2-9C10-99DD0C79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C4729-B597-4A70-AF88-73622077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4B684-DC15-4632-BE04-D085A89B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230C6-C88C-44F0-B7D9-D1CB5702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00CBF-3480-4982-AABF-581986F3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C8A47-66F2-4C2A-AE9A-323A3F3A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054B9-F1D8-4CD7-A380-D62486F4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A5A3-995E-4517-BF7B-E2CBAA4F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FBA89-F4B6-4CB5-8957-FC5D62C3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41E23-22A3-487A-8538-B05B4F8D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8A3A0-288E-48A1-9270-9E27F255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0357E-87E7-4979-98B5-62223590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B4011-24ED-4463-A8C8-035F00D6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A87A0-CF37-4D63-B778-C881CC4B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80136-3083-4356-890F-111471C8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9C50B-AA0E-4278-8442-19E90914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7A292-D18F-4182-BF83-A039405B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B99E1-BF67-4274-9AFC-F5EA4D03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748E-1D6B-4818-8869-63EEC32B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64EF0-72E7-4789-9981-F73193CB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2CBD9-AE63-4D7A-947D-1E3AF8F5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45124-3C30-4D2D-93AF-8812B140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EE883-9210-4DC0-80BE-E56FB4A9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FE340-788E-46A7-873E-59F68277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7C4D8-459B-4B97-9F04-FDF1C23C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F978E-D0E2-453D-84F9-B6FAD93A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425D6-A276-48AA-A367-DF269EBC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A879F-ACB1-4895-8601-A3D99DB0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C6DE1-9C9E-48E7-96C4-307BCCD5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E216-73B2-47CA-86B5-B51AFE67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439B8-491C-4549-A967-7DA95D3B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59815-8994-4B7F-8F6D-230B4293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0294C-EC01-44FD-9814-76F996E2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240F9-8B62-48FC-8ED3-5CB84844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AA4D0-C4AE-4B3E-AB25-71A07E02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1C9BA-89EA-47F7-9889-3F31F500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1E2E2-0027-40BA-B9F8-BF256A63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612DD-96C2-4A6B-8DF5-C1301E61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D05DC-3417-420E-AB7B-9BF8F7AC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E82C6-FAC7-4BBA-A626-0D179B97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8CAE-10DB-46BA-B026-219A16C3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03538-01D6-4448-BB21-A9CA1D06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79A23-66BA-432C-9963-68AC1EA0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50470-E114-4C55-ADBB-08DA37C3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858E3-8B39-45A6-B00B-895DA1A5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AB07A-647C-4337-A672-D43260B7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E40EE-9461-405B-BDF3-17E015B6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5A6EF-B72B-42F9-B17B-C452901E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E557F-627F-490A-9C9B-89481644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4DE59-9112-4387-98CC-CB601D3C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0F30E-BAD2-4105-8049-75D09125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0D59-6409-40FE-9C92-E9B8B663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994F5-14A2-4758-92A9-1917EB85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BABA1-3279-4D4D-AE8A-05A4B396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71F3E-FD1F-4D74-94BE-FE05370C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C88A0-796D-4BAE-85B3-7798F6CC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89357-9118-4D84-A312-511EF905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B7EEE-CA5A-4704-9648-275994E2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49371-773D-4C5D-BDC8-506C0613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C4147-A120-483A-B63E-4C86D0F3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0CB40-82D1-420B-92D8-173E5569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2ACC3-8492-4EE2-950F-7FF89227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2906-186A-4786-A4BF-84583A5D911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9FF6-8D3F-480D-B8A9-26E84793B01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5EC6-D505-4DFC-8F9B-347CBA350FD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1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B074-963E-4C6C-8B98-86AF60A0145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7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FCDC-4BF6-4259-B84B-F2E6DB5C641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ECA0-E1A5-455A-8AD0-131E8A2EF4F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7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186D-9B63-40F2-BEB6-2CDAC6DE512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EB28-5CF7-4160-ABBD-AA1D8BA481C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00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5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FCB6-2EEC-43E1-A6F6-90E561D0C500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2A6C-589F-49AC-9915-0E756627166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7CE4-C360-4B47-89E8-9CCBF1BF796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9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4B53-7092-4EA9-90FD-E07B54187DA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F88B-5C23-4ECA-A53A-5F4C032464D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9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3285-04A9-46F0-AC3A-254B888DC16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36D0-D517-41E2-B232-29EDC84C097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2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CBF7-848E-438F-8C9D-AD599B7EA1A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8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9841-FCB6-4DB0-9D4C-D85C107607E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D2C4-E984-4B06-B677-96D9F831A39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5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5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A665-E11D-45A6-A4CA-AFCA066BCB5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8793-B802-4567-85D1-83F1232B660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8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E93E-612E-4FFC-A56A-0607D17D77B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3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5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A662-C816-405A-849E-22484C106F1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0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B985-1C83-4D71-8901-73BC9DDF4DD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16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24DD-72D4-4891-AC80-7A45697A7AC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2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E95C-77AC-4884-ADE5-4E072AA6857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27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28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79EF-A8D0-4630-A4BF-56ABC440AFD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3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22B5-1A78-4272-9737-2A95A900A27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9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644A-A748-4F29-A540-8F178DC3AFF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46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9994-CBB3-4C94-BD60-A4A50057C71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2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05 November 201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547B-4861-4415-B5E9-D76AA8EAFD4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1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9BAD-D18F-4154-A477-E12C53AB187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F2B9-4347-4D38-B161-843342C4A67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B22E-D700-42C8-BC95-B40424E09B8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12F1-6746-46DB-A73B-832001DF637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D0B4-C350-488D-9957-F1DFFF1F7CA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7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5474-FD6A-4DC2-B3DF-3FF8F4CFE67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3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4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5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6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7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8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89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0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1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2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3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4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5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6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7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8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9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08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09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0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F516-6985-4AC8-A309-FE866023307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16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7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4067-E677-461E-866C-D763D268020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3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E8A9-43E7-4928-B4A1-B140724F8CF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9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8630-C9AA-4010-9CFC-19F6FC63E07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F03E-FC97-4AF4-87D0-B1892240FFE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5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F150-260F-4D0E-B65E-B809DFAD1E1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1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85D0-04BE-4A03-AEF4-F7E6BF82AAB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7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8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0551-CC2C-44E4-8CFE-8FA7B7D0AF5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4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51F9-2D22-4C79-B2CD-629DBA4604F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96B7-0833-4BB4-9CA7-D38A4AAF5B1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66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69CD-F8C7-4470-82E9-6C19DBD23A0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1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2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DFDE-55CF-49F1-9CAB-45D6C4A1FCB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77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D5D8-7CC9-4B4C-AD1C-5270D5F1669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3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6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C807-A33A-4C44-82BE-3280A56F25A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88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89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0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FF5B-54E6-4C2B-AE61-2E112676FE6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8741-7B9A-40D0-A997-7BB5E0422A1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218A-3DA6-49FF-BC2A-94A1F1F7F01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1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3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ECDC-B532-43BD-9CA5-3CD42B873FB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9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1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A1B3-54D1-48AD-B2AA-0FDF404D9CE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7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9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337E-F4F9-4F28-9E10-6DD6040665C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4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6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F5F9-BA69-4F6C-8E0B-622DCDB70D7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BFB5-7CBD-4AEF-8621-DC86C031A5A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37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38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0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1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7A1F-4D64-45D7-AB50-C8000385312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46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47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E91E-2C00-4A00-95C3-AEF9F16D569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4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5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6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5560-6E61-415C-A9BC-AAA4081F4A2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2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4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5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BC1E-6B5A-4553-99A8-E479F431924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23B8-0F1A-4364-96EC-95347023EAB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1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2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C0AD-4EE9-492D-B97D-005A5D46950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83D1-098E-4BFC-B919-ECF332C3D51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3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4729-1928-49B5-A245-566009F55F2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9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1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1BC9-50EA-48CC-8BE3-3EAA0B13AD5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4E5E-E830-4594-B38E-FBDF5BF82A2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1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C8F9-A405-4D0A-9BE0-3AEDDEF53D6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5DC6-E572-4815-820A-678386DF252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EB36-0915-405F-AA83-A102C9A1970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71E6-94ED-40BD-8EBF-6AAE451EDAF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F350-44F0-4165-95F0-3CA565496B8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0668-F1A2-438D-B8C8-705557D543F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C8D3-127F-4085-9331-D9E07F3884F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5-06-25T09:38:07Z</dcterms:modified>
  <cp:revision>105</cp:revision>
  <dc:subject/>
  <dc:title>Aims and Objectives</dc:title>
</cp:coreProperties>
</file>